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F52-CD12-45C6-8E80-0AEB30E7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8CD-0B3F-4CF3-B5EE-2AA1B0B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014-4542-48DC-94E4-7E9C2323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44E-DEA7-4CAA-BC08-A331370B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998-2DB1-42B1-AA55-64DF88AF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273-1EDF-44A9-9005-32B998B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D19-832B-42A9-99B6-CB2F096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397-6E54-4F4A-A191-9BF153C6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F4A-A75F-4216-A551-9FD43E9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EF9-7C4A-4E30-8403-062FDA4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528-C216-42B0-A029-682EED0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CFC-63BA-405D-8CC4-F6DD5DA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53C-5722-4498-B202-A68C8ADA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Technique by Stephan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Technique is Abstract Ran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like to dream, I’m crea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able to do many things at on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situations in shades of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lik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ensitive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able to follow guidelines with littl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\Right Side Dom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ominate side i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Abstract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style is Audi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better by someone saying things alou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arn by hear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listening to someone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Type of Intelligen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ype of Intelligence is Creative Intellig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6:05Z</dcterms:created>
  <dc:creator>student</dc:creator>
  <dc:description/>
  <dc:language>en-US</dc:language>
  <cp:lastModifiedBy>Joni George</cp:lastModifiedBy>
  <dcterms:modified xsi:type="dcterms:W3CDTF">2010-11-04T19:14:59Z</dcterms:modified>
  <cp:revision>4</cp:revision>
  <dc:subject/>
  <dc:title>My Fifth Grade Powerpoint by Stephanie Ann Rhodes</dc:title>
</cp:coreProperties>
</file>